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9385-6BCC-4DFF-9DE8-F105C009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B296-3372-446D-B828-3A794121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6CAB-6047-4061-B56B-7A0433C7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1297-F939-4DF4-99E4-AD991F9F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6682-E714-40F3-84AF-C87DC474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EBB5-541C-4269-BE88-42E1AF28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DB5F-5E9D-41A8-AEC0-5EFD673C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84B4-AD84-4A07-A01A-2E88F695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E0E7-88D8-49FC-B96F-8577FF89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1844-8245-43FB-B157-11568F83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01C7-231A-4736-9019-AA643C8E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2CF5-BC94-4498-99C7-022A5253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6683-2B8B-4AFA-87A3-AE30B6139744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642960" y="928800"/>
            <a:ext cx="7772400" cy="1469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alibri"/>
              </a:rPr>
              <a:t>Raising Student Achievement in Lite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1357200" y="30002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 eng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berate acts of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rposeful follow-up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 rot="21576600">
            <a:off x="2895480" y="382320"/>
            <a:ext cx="3200400" cy="47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0440">
                  <a:solidFill>
                    <a:srgbClr val="4579b8"/>
                  </a:solidFill>
                  <a:miter/>
                </a:ln>
                <a:gradFill rotWithShape="0">
                  <a:gsLst>
                    <a:gs pos="0">
                      <a:srgbClr val="bed3f9"/>
                    </a:gs>
                    <a:gs pos="100000">
                      <a:srgbClr val="bed3f9"/>
                    </a:gs>
                  </a:gsLst>
                  <a:lin ang="5424000"/>
                </a:gradFill>
                <a:latin typeface="Arial Black"/>
              </a:rPr>
              <a:t>Mac Pages – track changes</a:t>
            </a:r>
            <a:endParaRPr b="1" lang="en-US" sz="1800" spc="1" strike="noStrike">
              <a:ln w="10440">
                <a:solidFill>
                  <a:srgbClr val="4579b8"/>
                </a:solidFill>
                <a:miter/>
              </a:ln>
              <a:gradFill rotWithShape="0">
                <a:gsLst>
                  <a:gs pos="0">
                    <a:srgbClr val="bed3f9"/>
                  </a:gs>
                  <a:gs pos="100000">
                    <a:srgbClr val="bed3f9"/>
                  </a:gs>
                </a:gsLst>
                <a:lin ang="5424000"/>
              </a:gradFill>
              <a:latin typeface="Arial Black"/>
              <a:ea typeface="Arial Black"/>
            </a:endParaRPr>
          </a:p>
        </p:txBody>
      </p:sp>
      <p:pic>
        <p:nvPicPr>
          <p:cNvPr id="59" name="Picture 2" descr="Picture 3.png"/>
          <p:cNvPicPr/>
          <p:nvPr/>
        </p:nvPicPr>
        <p:blipFill>
          <a:blip r:embed="rId1"/>
          <a:stretch/>
        </p:blipFill>
        <p:spPr>
          <a:xfrm>
            <a:off x="1066680" y="1143000"/>
            <a:ext cx="6934320" cy="51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Right Arrow 6"/>
          <p:cNvSpPr/>
          <p:nvPr/>
        </p:nvSpPr>
        <p:spPr>
          <a:xfrm>
            <a:off x="762120" y="3962520"/>
            <a:ext cx="838080" cy="22860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Up Arrow 8"/>
          <p:cNvSpPr/>
          <p:nvPr/>
        </p:nvSpPr>
        <p:spPr>
          <a:xfrm>
            <a:off x="5761080" y="3962520"/>
            <a:ext cx="336600" cy="993600"/>
          </a:xfrm>
          <a:prstGeom prst="upArrow">
            <a:avLst>
              <a:gd name="adj1" fmla="val 50000"/>
              <a:gd name="adj2" fmla="val 49854"/>
            </a:avLst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TextBox 9" descr=""/>
          <p:cNvPicPr/>
          <p:nvPr/>
        </p:nvPicPr>
        <p:blipFill>
          <a:blip r:embed="rId2"/>
          <a:stretch/>
        </p:blipFill>
        <p:spPr>
          <a:xfrm>
            <a:off x="5230800" y="5041800"/>
            <a:ext cx="1682640" cy="408240"/>
          </a:xfrm>
          <a:prstGeom prst="rect">
            <a:avLst/>
          </a:prstGeom>
          <a:ln w="0">
            <a:noFill/>
          </a:ln>
        </p:spPr>
      </p:pic>
      <p:sp>
        <p:nvSpPr>
          <p:cNvPr id="63" name="Right Arrow 10"/>
          <p:cNvSpPr/>
          <p:nvPr/>
        </p:nvSpPr>
        <p:spPr>
          <a:xfrm>
            <a:off x="380880" y="1981080"/>
            <a:ext cx="838440" cy="2286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925040" cy="5486400"/>
          </a:xfrm>
          <a:prstGeom prst="rect">
            <a:avLst/>
          </a:prstGeom>
          <a:ln w="0">
            <a:noFill/>
          </a:ln>
        </p:spPr>
      </p:pic>
      <p:sp>
        <p:nvSpPr>
          <p:cNvPr id="65" name="WordArt 2"/>
          <p:cNvSpPr txBox="1"/>
          <p:nvPr/>
        </p:nvSpPr>
        <p:spPr>
          <a:xfrm rot="21576600">
            <a:off x="787320" y="439200"/>
            <a:ext cx="3200400" cy="47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0440">
                  <a:solidFill>
                    <a:srgbClr val="4579b8"/>
                  </a:solidFill>
                  <a:miter/>
                </a:ln>
                <a:gradFill rotWithShape="0">
                  <a:gsLst>
                    <a:gs pos="0">
                      <a:srgbClr val="bed3f9"/>
                    </a:gs>
                    <a:gs pos="100000">
                      <a:srgbClr val="bed3f9"/>
                    </a:gs>
                  </a:gsLst>
                  <a:lin ang="5424000"/>
                </a:gradFill>
                <a:latin typeface="Arial Black"/>
              </a:rPr>
              <a:t>Editing can be fun</a:t>
            </a:r>
            <a:endParaRPr b="1" lang="en-US" sz="1800" spc="1" strike="noStrike">
              <a:ln w="10440">
                <a:solidFill>
                  <a:srgbClr val="4579b8"/>
                </a:solidFill>
                <a:miter/>
              </a:ln>
              <a:gradFill rotWithShape="0">
                <a:gsLst>
                  <a:gs pos="0">
                    <a:srgbClr val="bed3f9"/>
                  </a:gs>
                  <a:gs pos="100000">
                    <a:srgbClr val="bed3f9"/>
                  </a:gs>
                </a:gsLst>
                <a:lin ang="5424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071720" y="133200"/>
            <a:ext cx="69292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14280" y="857160"/>
            <a:ext cx="72154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785880" y="428760"/>
            <a:ext cx="7500960" cy="6372000"/>
          </a:xfrm>
          <a:prstGeom prst="rect">
            <a:avLst/>
          </a:prstGeom>
          <a:ln w="0">
            <a:noFill/>
          </a:ln>
        </p:spPr>
      </p:pic>
      <p:sp>
        <p:nvSpPr>
          <p:cNvPr id="69" name="Down Arrow 4"/>
          <p:cNvSpPr/>
          <p:nvPr/>
        </p:nvSpPr>
        <p:spPr>
          <a:xfrm>
            <a:off x="1785960" y="214200"/>
            <a:ext cx="142920" cy="114300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2428920" y="23760"/>
            <a:ext cx="2714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00040" y="0"/>
            <a:ext cx="86835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69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14240" y="571680"/>
            <a:ext cx="7153560" cy="2571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1000080" y="3000240"/>
            <a:ext cx="66294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571680" y="357120"/>
            <a:ext cx="792468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286000" y="563400"/>
            <a:ext cx="6434280" cy="608040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285840" y="285840"/>
            <a:ext cx="60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wordbyletter.co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3" descr=""/>
          <p:cNvPicPr/>
          <p:nvPr/>
        </p:nvPicPr>
        <p:blipFill>
          <a:blip r:embed="rId1"/>
          <a:stretch/>
        </p:blipFill>
        <p:spPr>
          <a:xfrm>
            <a:off x="390600" y="225360"/>
            <a:ext cx="5735520" cy="822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boywriting.jpg"/>
          <p:cNvPicPr/>
          <p:nvPr/>
        </p:nvPicPr>
        <p:blipFill>
          <a:blip r:embed="rId2"/>
          <a:srcRect l="26102" t="35728" r="0" b="17399"/>
          <a:stretch/>
        </p:blipFill>
        <p:spPr>
          <a:xfrm>
            <a:off x="1114560" y="1719360"/>
            <a:ext cx="5232240" cy="30049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5" descr=""/>
          <p:cNvPicPr/>
          <p:nvPr/>
        </p:nvPicPr>
        <p:blipFill>
          <a:blip r:embed="rId3"/>
          <a:stretch/>
        </p:blipFill>
        <p:spPr>
          <a:xfrm>
            <a:off x="4896000" y="5194440"/>
            <a:ext cx="266832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785880" y="928800"/>
            <a:ext cx="7000920" cy="52480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2857680" y="35712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alibri"/>
              </a:rPr>
              <a:t>http://www.readwritethink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3" descr=""/>
          <p:cNvPicPr/>
          <p:nvPr/>
        </p:nvPicPr>
        <p:blipFill>
          <a:blip r:embed="rId1"/>
          <a:stretch/>
        </p:blipFill>
        <p:spPr>
          <a:xfrm>
            <a:off x="566640" y="317520"/>
            <a:ext cx="72248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14200" y="1928880"/>
            <a:ext cx="8615520" cy="2500200"/>
          </a:xfrm>
          <a:prstGeom prst="rect">
            <a:avLst/>
          </a:prstGeom>
          <a:ln w="0">
            <a:noFill/>
          </a:ln>
        </p:spPr>
      </p:pic>
      <p:sp>
        <p:nvSpPr>
          <p:cNvPr id="48" name="Down Arrow 4"/>
          <p:cNvSpPr/>
          <p:nvPr/>
        </p:nvSpPr>
        <p:spPr>
          <a:xfrm>
            <a:off x="4786200" y="1000080"/>
            <a:ext cx="214560" cy="1571760"/>
          </a:xfrm>
          <a:prstGeom prst="downArrow">
            <a:avLst>
              <a:gd name="adj1" fmla="val 50000"/>
              <a:gd name="adj2" fmla="val 4995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own Arrow 5"/>
          <p:cNvSpPr/>
          <p:nvPr/>
        </p:nvSpPr>
        <p:spPr>
          <a:xfrm>
            <a:off x="6500880" y="1214280"/>
            <a:ext cx="214200" cy="1571760"/>
          </a:xfrm>
          <a:prstGeom prst="downArrow">
            <a:avLst>
              <a:gd name="adj1" fmla="val 50000"/>
              <a:gd name="adj2" fmla="val 5004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own Arrow 6"/>
          <p:cNvSpPr/>
          <p:nvPr/>
        </p:nvSpPr>
        <p:spPr>
          <a:xfrm>
            <a:off x="7072200" y="1214280"/>
            <a:ext cx="214560" cy="1571760"/>
          </a:xfrm>
          <a:prstGeom prst="downArrow">
            <a:avLst>
              <a:gd name="adj1" fmla="val 50000"/>
              <a:gd name="adj2" fmla="val 4995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57120" y="571680"/>
            <a:ext cx="83646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985680" y="838080"/>
            <a:ext cx="71726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714240" y="1571760"/>
            <a:ext cx="7386840" cy="465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1428840" y="0"/>
            <a:ext cx="5448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782964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42960" y="2000160"/>
            <a:ext cx="7924680" cy="1981440"/>
          </a:xfrm>
          <a:prstGeom prst="rect">
            <a:avLst/>
          </a:prstGeom>
          <a:ln w="0">
            <a:noFill/>
          </a:ln>
        </p:spPr>
      </p:pic>
      <p:sp>
        <p:nvSpPr>
          <p:cNvPr id="57" name="Down Arrow 5"/>
          <p:cNvSpPr/>
          <p:nvPr/>
        </p:nvSpPr>
        <p:spPr>
          <a:xfrm rot="19753800">
            <a:off x="5057640" y="1307880"/>
            <a:ext cx="136800" cy="2214360"/>
          </a:xfrm>
          <a:prstGeom prst="downArrow">
            <a:avLst>
              <a:gd name="adj1" fmla="val 100000"/>
              <a:gd name="adj2" fmla="val 4983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8:46:22Z</dcterms:created>
  <dc:creator>edtech</dc:creator>
  <dc:description/>
  <dc:language>en-US</dc:language>
  <cp:lastModifiedBy>Director</cp:lastModifiedBy>
  <dcterms:modified xsi:type="dcterms:W3CDTF">2012-03-07T22:41:47Z</dcterms:modified>
  <cp:revision>70</cp:revision>
  <dc:subject/>
  <dc:title>Raising Student Achievement in Literacy</dc:title>
</cp:coreProperties>
</file>